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7A8B-FE35-4197-A59B-7115FEB0FD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have several points, steps, or key ideas use multiple slides.  Determine if your audience is to understand a new idea, learn a process, or receive greater depth to a familiar concept.  Back up each point with adequate explanation. As appropriate, supplement your presentation with technical support data in hard copy or on disc, e-mail, or the Internet.  Develop each point adequately to communicate with your audie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8FF2-B76D-4F27-A7DB-8863A051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6B9-884E-47FE-B932-4CE7D018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B445-A6D4-4D7A-8B89-F061237F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15EE-8E57-4B28-97DC-608AAA64F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BD25-3DB9-435A-AF7E-6AAE7AE3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82E2F-F398-4807-A384-86092D45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3C1B-60BF-4A12-B745-385A69A7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7184-E859-4E7C-8AD7-0889B4F9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69926-6D54-4A52-976C-376A366E9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0218-2641-4C27-889D-26E070FB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6DB2-3BA9-4BBC-B9EF-C8790F1AF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E0E-FA5F-4633-A8E1-2ECD3A4EE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EC41-C7B1-4CFF-96DF-AE4EB5B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0DB8-9D9E-4AF5-B50F-BEEA6AA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951D-C049-4EB8-8E11-D867C5EF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7BD9-F261-4772-BF05-1A5C2099E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AE37-BDE5-4134-9A0F-CE459A94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975-D056-49FA-86AA-DF9EB178B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D675-D857-4B2D-A7A2-EF4712589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9292-6DEF-473F-92A1-FD8C466E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E3C0-9625-487E-8487-7E0F9075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2A4A-0764-416D-B7FA-E360C804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4AB-02B9-4274-896C-34669016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D090-086A-4125-98D5-CDDE625F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2584-8E38-4828-8E5C-EB0269A57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E349-BAFF-41BD-9E77-637AEA5CEA7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localhost:8080/ekp/nd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verview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e-click launch of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uto-install featu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versioning/caching feature for update/fast startu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vide some API for desktop applica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ndle a JNLP-deployed application in a Web Archive (WAR) fil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686800" cy="4438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rchitec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915840"/>
            <a:ext cx="8458200" cy="60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nlp spec="1.0+" codebase=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ourier New"/>
                <a:hlinkClick r:id="rId1"/>
              </a:rPr>
              <a:t>http://localhost:8080/ekp/nd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href="http://localhost:8080/ekp/nd/test.jnlp"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title&gt;JWS test&lt;/titl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vendor&gt;Netdimensions&lt;/vendo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homepage href="http://www.netdimensions.com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description&gt;Test&lt;/descrip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icon href="http://www.netdimensions.com/netd_images/logo.jpg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offline-allowed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information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securit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j2se version="1.3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jar href="http://localhost:8080/ekp/nd/test.jar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resources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1b60f"/>
                </a:solidFill>
                <a:latin typeface="Courier New"/>
              </a:rPr>
              <a:t>&lt;application-desc main-class="test.test"/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&lt;/jnlp&gt;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ample of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Extra Tag useful in descriptor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extra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 main-clas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Main"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1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   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arg2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rgume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/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pplication-des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gt;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fine VM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2se versio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1.3"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-heap-size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="64m"/&gt;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&lt;property name="..." value=".."/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4495680"/>
            <a:ext cx="7543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ttp://carfield:8080/ekp/nd/test.jnlp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Auto Install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nly For Windows platfor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OBJECT CODEBASE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http://java.sun.com/products/javawebstart/autodl/jinstall-1_4_1-windows-i586.cab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CLASSID="</a:t>
            </a:r>
            <a:r>
              <a:rPr b="1" lang="en-US" sz="1600" spc="-1" strike="noStrike">
                <a:solidFill>
                  <a:srgbClr val="f1b60f"/>
                </a:solidFill>
                <a:latin typeface="Courier New"/>
              </a:rPr>
              <a:t>clsid:5852F5ED-8BF4-11D4-A245-0080C6F74284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" HEIGHT=0 WIDTH=0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&lt;PARAM NAME="app" VALUE="http://carfield:8080/ekp/nd/test.jnlp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PARAM NAME="back" VALUE="true"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!-- Alternate HTML for browsers which cannot instantiate the object --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A HREF="http://java.sun.com/cgi-bin/javawebstart-platform.sh?"&gt;Download Java Web Start&lt;/A&gt;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/OBJEC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place CODEBASE for complete JRE insta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mo: http://carfield:8080/ekp/nd/test1.htm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Java Web Start API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sicService, which provides a service similar to the AppletContex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wnloadService, which allows an application to interact with the JNLP Client to check if application resources are available locally, and to request them to be downloa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ice allow un-trust client execute system fun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Open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leSave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pboard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Service, key base persistence store like cook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tensionInstallerService, which provides an interface for extension installers to communicate with the JNLP Cli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Other Feature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ble to access system resource using code sign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ache the jar in hard-dis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ackaging JNLP Applications in a Web Archiv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Versioning support:</a:t>
            </a:r>
            <a:br>
              <a:rPr sz="3000"/>
            </a:b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&lt;jar href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http://www.mysite.com/b.jar"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version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="2.3+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06:37:15Z</dcterms:created>
  <dc:creator>carfield</dc:creator>
  <dc:description/>
  <dc:language>en-US</dc:language>
  <cp:lastModifiedBy>Netdimensions</cp:lastModifiedBy>
  <dcterms:modified xsi:type="dcterms:W3CDTF">2003-04-03T08:19:49Z</dcterms:modified>
  <cp:revision>5</cp:revision>
  <dc:subject/>
  <dc:title>Java Web Start</dc:title>
</cp:coreProperties>
</file>